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C0B-8E98-4298-96E5-42EEBAD8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E0B-FD99-4255-AC9A-537AA9A8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5BF-907D-4027-B809-854BC7E9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0F9-7754-4069-ADCA-7BF05212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1742-81EB-4812-AE4A-B2622C16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17F2-6D2A-494B-8BDF-5D350311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0AC3-F863-407E-A0B1-B03A364D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809A-3873-46EA-9AE3-49D66F24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1740-5DB9-4533-9F34-9034DC82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8A91-048A-40AF-B291-3091753F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3FFF-5A38-43A9-B4F1-92A35AA4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56F-BECC-465B-AAE2-5B1281D0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4829-66E9-4776-9C2C-8722DFCC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7FB6-A40D-42BD-99DF-4F454AC2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DC11-471A-4CFD-B8D3-278677B3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4D31-A234-48B9-A1B9-31EEAD0D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5B21-C81A-4CD9-BB8E-DB32EB31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BF3A6-CE08-4569-B590-F955D300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70DF-E847-4898-BB8C-DCA93748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3112-4A78-4908-B29C-5FCCE0C7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2E943-E23A-4A07-81AD-51A71A3F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CB47-2149-4540-91FF-0FB934CF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175-BF6C-42D8-B400-D871F9B9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3AB9-F469-4379-B1E0-E1A31150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9D5D1-F02B-4C40-AD6B-021EEFF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E74A9-0AE3-44B2-B127-F08B7D60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8449-3729-40C4-B8C6-2D90B870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08AE-8C0B-470B-A623-315D07EE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506D-CED0-4CBE-B27A-DF4E6614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3C25-BA86-41EA-AEC0-34AB8F3E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042EF-A085-428D-9228-FCEFEA7D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2A9F6-1F8B-41E6-B03E-2DBC0C89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C458-6664-47AD-9B73-1AC12866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20B-055A-4584-834A-DE1E9F69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E925-107A-41A8-97FB-B0A496EE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C4ED2-50A3-48C7-9427-24AC562E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DC498-8BD1-4492-988E-A5055074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67751-0038-4E86-949E-CCAAE212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428B-2874-426F-9B46-B1C9B105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53468-FD80-4819-8347-4F84768C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D06BE-D767-4829-A602-598F63EC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AA0E2-C2DC-4A9B-8912-B1B103E4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65346-09C2-432E-B295-5A102A4C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F389C-7D99-4552-ABD1-163A240E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8B5-B6E9-492F-A3F6-FFE8DEE3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BC7C6-1A92-489A-BE2C-97E179D0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65074-F4AE-4E55-852F-4DA9D6AE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0BAE9-62A5-46EE-BAE4-65A116E4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93898-C6D4-4734-8D7F-A5A00657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DE4FC-0448-4837-A071-A17CF2A2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A0A1B-36D2-434E-8EF9-CF008E2C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9D48E-6CAB-4918-9A55-6C948303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84A4D-193A-4B28-A517-B20D9198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7AAD7-51EB-4E7A-AEF9-98359432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D741B-187F-4E6A-927D-8AE0EA90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F5D-8C82-471C-B6E3-2583E563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E9844-0393-4FD9-BEE5-751AA275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28D-51CE-4FA2-979C-E1B6CA62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B64-BD21-45D4-A5A6-490A074D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499-6F13-4A5E-A678-A3428A60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944B-12D1-41F5-9E24-B6446A162914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E08D-3A9F-47A4-85BD-8A87A8958B5E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7E9C-FEDC-465A-861F-59C30AD51C05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0381-F141-49D8-9E71-97D4FC8FF861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DF08-7437-499E-846E-8EB7A2E30468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66e1"/>
            </a:gs>
            <a:gs pos="100000">
              <a:srgbClr val="c1e6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46240" y="360000"/>
            <a:ext cx="873432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974680" y="1589040"/>
            <a:ext cx="76928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ила дорожные детям знать положено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и 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 Мустафаева Л.Т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омедова И.Р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Южно-Сухокумск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870120" y="2573280"/>
            <a:ext cx="2352600" cy="2706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для родителей в папке-передвижке «Дорожная азбук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4" name="Объект 3" descr=""/>
          <p:cNvPicPr/>
          <p:nvPr/>
        </p:nvPicPr>
        <p:blipFill>
          <a:blip r:embed="rId1"/>
          <a:srcRect l="0" t="0" r="-138" b="25190"/>
          <a:stretch/>
        </p:blipFill>
        <p:spPr>
          <a:xfrm>
            <a:off x="3344760" y="2406600"/>
            <a:ext cx="6462720" cy="3321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 по безопасности  в групп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Picture 4" descr="C:\Users\Админ\Desktop\IMG-20200205-WA0001.jpg"/>
          <p:cNvPicPr/>
          <p:nvPr/>
        </p:nvPicPr>
        <p:blipFill>
          <a:blip r:embed="rId1"/>
          <a:stretch/>
        </p:blipFill>
        <p:spPr>
          <a:xfrm>
            <a:off x="3597120" y="2233440"/>
            <a:ext cx="5643720" cy="3662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ла к игре-путешествию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В страну дорожных знаков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0" name="Picture 4" descr="C:\Users\Админ\Desktop\IMG-20200205-WA0011.jpg"/>
          <p:cNvPicPr/>
          <p:nvPr/>
        </p:nvPicPr>
        <p:blipFill>
          <a:blip r:embed="rId1"/>
          <a:stretch/>
        </p:blipFill>
        <p:spPr>
          <a:xfrm>
            <a:off x="3789360" y="2570040"/>
            <a:ext cx="6027840" cy="3818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юр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3" name="Picture 4" descr="C:\Users\Админ\Desktop\IMG-20200205-WA0000.jpg"/>
          <p:cNvPicPr/>
          <p:nvPr/>
        </p:nvPicPr>
        <p:blipFill>
          <a:blip r:embed="rId1"/>
          <a:stretch/>
        </p:blipFill>
        <p:spPr>
          <a:xfrm>
            <a:off x="3876840" y="2303640"/>
            <a:ext cx="5580000" cy="3404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ветофорики»  и «Дорожные зна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Picture 4" descr="C:\Users\Админ\Desktop\IMG-20200205-WA0008.jpg"/>
          <p:cNvPicPr/>
          <p:nvPr/>
        </p:nvPicPr>
        <p:blipFill>
          <a:blip r:embed="rId1"/>
          <a:stretch/>
        </p:blipFill>
        <p:spPr>
          <a:xfrm>
            <a:off x="4054320" y="2443320"/>
            <a:ext cx="5354640" cy="3500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гает «Шапокляк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Picture 4" descr="C:\Users\Админ\Desktop\IMG-20200205-WA0012.jpg"/>
          <p:cNvPicPr/>
          <p:nvPr/>
        </p:nvPicPr>
        <p:blipFill>
          <a:blip r:embed="rId1"/>
          <a:stretch/>
        </p:blipFill>
        <p:spPr>
          <a:xfrm>
            <a:off x="3643200" y="2189160"/>
            <a:ext cx="5921640" cy="3970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тофор» принёс письм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облемными ситуациями на дорог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Picture 4" descr="C:\Users\Админ\Desktop\IMG-20200205-WA0010.jpg"/>
          <p:cNvPicPr/>
          <p:nvPr/>
        </p:nvPicPr>
        <p:blipFill>
          <a:blip r:embed="rId1"/>
          <a:stretch/>
        </p:blipFill>
        <p:spPr>
          <a:xfrm>
            <a:off x="3589200" y="2104920"/>
            <a:ext cx="5824800" cy="392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ая игра «Светофорчи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5" name="Picture 4" descr="C:\Users\Админ\Desktop\IMG-20200205-WA0003.jpg"/>
          <p:cNvPicPr/>
          <p:nvPr/>
        </p:nvPicPr>
        <p:blipFill>
          <a:blip r:embed="rId1"/>
          <a:stretch/>
        </p:blipFill>
        <p:spPr>
          <a:xfrm>
            <a:off x="3895560" y="1996920"/>
            <a:ext cx="5235840" cy="3573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7" name="Picture 4" descr="C:\Users\Админ\Desktop\IMG-20200205-WA0007.jpg"/>
          <p:cNvPicPr/>
          <p:nvPr/>
        </p:nvPicPr>
        <p:blipFill>
          <a:blip r:embed="rId1"/>
          <a:stretch/>
        </p:blipFill>
        <p:spPr>
          <a:xfrm>
            <a:off x="3657600" y="2089080"/>
            <a:ext cx="5907240" cy="3998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есня «Яркие огоньки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роекта подготовили воспитател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стафаеваЛ.Т. Магомедова И.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84360" y="407880"/>
            <a:ext cx="991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50440" y="1088640"/>
            <a:ext cx="1005228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й, познавательно-исследовательский 5-6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месяце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старшей группы, родители группы, воспитател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блас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йствованы все образовательные обла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0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4280" y="231480"/>
            <a:ext cx="100188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ое сло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84280" y="2414520"/>
            <a:ext cx="1001880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ждена, что метод проектирования - это технология включающая комплексную деятельность, которая даёт положительные результа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проекта «Правила дорожные детям знать положено» смогли заинтересовать родителей и их детей к совместной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роект может быть рекомендован как воспитателям ДОУ так и родителям, так как он является необходимым звеном по профилактике ДДТ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я, здоровья вам и вашим детям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1584360"/>
            <a:ext cx="10018800" cy="42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острота проблемы диктует необходимость поиска новых форм и методов воспитания обучения по профилактике детского дорожно-транспортного травматизма, проведению профилактической работы с детьми и родителями воспитанников на основе современных педагогических технологий таких как проектная деятель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84280" y="1719360"/>
            <a:ext cx="10018800" cy="42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аксимально эффективных условий для детей старшего дошкольного возраста по формированию элементарных правил дорожно-транспортной безопасности в ходе реализации проекта «Правила дорожные детям знать положено» посредствам включения родителей воспитанников в образовательную деятельность, направленную на расширение и закрепление знаний воспитанников и их родителей ПД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9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267840"/>
            <a:ext cx="10018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84280" y="1669680"/>
            <a:ext cx="10018800" cy="518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навыков безопасного поведения и развития познавательных процессов необходимых для правильной ориентации на дороге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дить партнёрские взаимоотношения педагогов и родителе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е о правилах поведения пешехода на улицах город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способности к предвидению возможной опасности в конкретно меняющейся ситуации и построению адекватного безопасного поведения на дороге; 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с детьми знаний правил уличного движ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ребёнка ориентироваться в дорожных ситуациях на пути движения в детский сад и обратн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й результа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84280" y="1816200"/>
            <a:ext cx="1001880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птимальных и необходимых условий для организации совместной деятельности с родителями по профилактике детского дорожно-транспортного травматизма ДДТТ 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Формирование у детей элементарных норм и правил дорожно-транспортной безопасности 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тие  дошкольникам  умения ориентироваться в дорожных ситуациях на пути движения в детский сад и обрат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4280" y="450360"/>
            <a:ext cx="100188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84280" y="1536480"/>
            <a:ext cx="10018800" cy="46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ланированные мероприятия проводятся в непосредственной образовательной деятельности, в совместной деятельности воспитателей и детей  в виде:  бесед, викторин, выставок детских работ по ПДД, наблюдений за движением транспорта, чтение художественной литературы, отгадывания загадок, кроссвордов;  развивающие, познавательные, сюжетно-ролевые, подвижные игры, оформление уголка по «Правилам дорожного движения», разработка и использование маршрута «Дом – детский сад» совместно с родителя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еализации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350720" y="2255400"/>
            <a:ext cx="10018440" cy="441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плакатов по безопасности дорожного движения с деть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на лучший рисунок по ПДД «Светофорик» совместно с родителями на тему «Я пешехо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 родителями и использование маршрута «Дом – детский са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занятий по ПДД, дидактических, сюжетно-ролевых иг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утешествие « В страну дорожных знаков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роизведений по тематике ПДД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тенды для родителей по ПД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 детских работ по ПДД «Светофори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2" name="Объект 3" descr=""/>
          <p:cNvPicPr/>
          <p:nvPr/>
        </p:nvPicPr>
        <p:blipFill>
          <a:blip r:embed="rId1"/>
          <a:srcRect l="17026" t="11927" r="14288" b="15937"/>
          <a:stretch/>
        </p:blipFill>
        <p:spPr>
          <a:xfrm>
            <a:off x="3452760" y="2070000"/>
            <a:ext cx="5965920" cy="3403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5:34:29Z</dcterms:created>
  <dc:creator>1</dc:creator>
  <dc:description/>
  <dc:language>en-US</dc:language>
  <cp:lastModifiedBy>Админ</cp:lastModifiedBy>
  <dcterms:modified xsi:type="dcterms:W3CDTF">2020-02-05T19:20:39Z</dcterms:modified>
  <cp:revision>123</cp:revision>
  <dc:subject/>
  <dc:title>Муниципальное бюджетное дошкольное образовательное учреждение «Новокараканский детский сад комбинированного вида»</dc:title>
</cp:coreProperties>
</file>